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CE582-588B-4A22-B163-B49597620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79241-EB8B-499A-BC53-3659BE109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4FBBE-6EFD-4ABA-A3DD-4DEA28FC7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E1352-176E-492B-BFF6-0635080CF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D65A2-2087-47A3-A2C2-0ABDD6799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9FD22-25E2-4707-A024-A01D59827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8659A-CDCF-4BEB-A22D-D619EDAA0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60146-F42E-44D0-B78A-A29D7FDAA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9A79F-A949-48D0-8DE1-8F0751CC0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9A59D-2727-4283-BCB5-1FE0FEAAB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4B352-8F4B-435D-B797-430DEA1BD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DE29F-7D7B-4F82-90CD-8170D4BD2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3EC2C-BB59-4A18-B034-5616A8CD9AA3}" type="slidenum"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323 Na kríži trpel som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a kríži trpel som 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 tam aj dokonal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by si sa dieťaťom 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už navždy Božím sta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4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Od smrti som ťa zachránil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či na to pamätáš?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a teba krvou zaplatil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ak veľkú cenu máš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4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re teba som sa vzdal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j slávy nebeskej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 na seba som vzal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bôľ, strasti pozemské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a svete som bol cudzincom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ž na smrť raneným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by nezostal si vyhnancom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ráv večných zbavený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Od Otca v nebesiach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voj hriech ma odlúčil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a mysli neklesaj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eď som ťa vykúpi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voj pokoj,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radosť chcem ti dať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út hriechu pozbaviť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chcem v tvojom srdci prebývať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 s tebou večne žiť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DUMAS Ing. Dušan Bielik</cp:lastModifiedBy>
  <dcterms:modified xsi:type="dcterms:W3CDTF">2025-09-04T15:36:29Z</dcterms:modified>
  <cp:revision>28</cp:revision>
  <dc:subject/>
  <dc:title>Je veľký náš Pán, on slávy je Kráľ Nech do všetkých strán  spev vrúcnych znie chvál.</dc:title>
</cp:coreProperties>
</file>